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C18-0E5E-446D-8079-2FF410C9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067-F178-4130-BB13-0CCF6D33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F25-555D-4011-8BBB-3AC9976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9E8-5A60-4C81-9459-042F538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B17-DD1B-43DF-BA65-BE6EC36A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EE2-BE4B-4263-B95B-9AB97940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C5A4-F766-4359-9830-A78996BA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C7D-310D-4FB4-86B9-0397A58F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2FF5-E414-44A1-AE71-7031C59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7F2-9448-4917-B11F-FC2ACEE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920-2257-4446-A7A8-B9EECBD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4178-B7B9-48CF-91D0-4D24EA7C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C5E-1FED-4561-A187-942D4DC7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1EC-4D25-4601-BD1C-4CAEA971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A33C-E189-4557-A462-4938D16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3961-D150-448F-B9C4-64AD143F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7FE-91FD-48F7-81E4-17922D3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7FFF-B9DC-4732-9D9F-87C4D636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9D2-CBFE-4DB1-8912-A9CE7542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682-581E-4294-80F5-CAFB5991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176-9C12-4610-B337-2B4E8A4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B74-49BA-452A-AB76-2A2B5485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063-37FF-4BCA-BDF2-78259D8A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19A-DC88-4AB3-9752-5E3743F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1A1-5C56-4E44-A558-94ABE70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537-7461-4199-9FFB-A71D6B7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162560" y="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B7F4-6D0F-44E6-B294-9C807E8B6BA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857C032-2F70-49FC-B6BB-6BF01F97B000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68F0-AEB3-4732-AB02-5B9332019D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EAD-BD34-4A2C-98FD-AC749E941D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EA331E8-7395-49DF-8F8C-14116CD930A3}" type="datetime10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746F-9304-4EB1-B672-33E802A485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otion.html" TargetMode="External"/><Relationship Id="rId2" Type="http://schemas.openxmlformats.org/officeDocument/2006/relationships/hyperlink" Target="file:///motion%20path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rop_shadow_dog.html" TargetMode="External"/><Relationship Id="rId2" Type="http://schemas.openxmlformats.org/officeDocument/2006/relationships/hyperlink" Target="file:///drop_shadow_monkey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sca.fl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6CC1-6572-45BD-B415-677185D58B1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66F41AC-D897-495D-9451-C339718E4219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A16-E0AF-4B95-992D-39B2B258B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PLICAŢII MULTI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r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3350-595F-4007-BA10-AA995AEB6C7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5BEAE5C-5F61-49D9-A28A-3F766AC0E145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546-D98A-4294-A4C0-FEA24B2E63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Shape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xemplu de SHAPE TW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 cadrul 1 se scrie cifr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Arial Black, 48, bold)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Break Apart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Free Transform Tool şi se redimensionează la 180/230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oziţionare în centrul paginii: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lign Panel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fişat) Align to stage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lign horizontal/vertical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introduc Keyrame în 40 (F6) şi Frame în 41(F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introduce Blank Keyrame în 19 (F6) şi se tastează cifr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care se transformă în shape similar cifre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şi se aduce la dimensiunile 180/2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introduce shape tweening: dublu click pe frame 1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e selectează automat cadrele aparţinând animaţiei, iar în panoul de proprietăţi apare meniul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ween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u opţiunea ’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’ afişată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e select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în Timeline apare săgeata pe fond verde, care arată că animaţia shape este activ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79E-A189-4576-A097-714216F1EF9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8A3ADF4-10CD-43E3-8C49-6621FA6218A9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23A-F030-4612-A6FB-94B402D8D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puri de anima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ţ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mintim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 există două feluri d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tweened animatio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Arial"/>
              </a:rPr>
              <a:t>Motion tweenin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obiectele sau grupurile de obiecte se transformă în prealabil în simboluri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tă în modificarea proprietăţilor: poziţie, dimensiune, unghi de rotaţie a unei instanţe, grup sau bloc d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weening mo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twening motion along a path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(utilizând un layer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Guid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Arial"/>
              </a:rPr>
              <a:t>Shape tweenin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nu se utilizează simboluri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se aplică proprietăţilor: locaţie, dimensiune, culoare şi opacitate asociate unei for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5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E99-6422-4777-B690-C010BA6DF0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C6E74B2-CB15-4C94-8814-5630DED8C2AC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427-FFF9-4986-9FD7-C86A20508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odul de reprezentare al keyframe-urilor şi animaţiei tweenin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keyfram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urile sunt reprezentate de un cerculeţ plin (dacă are conţinut) sau g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drele următoare unui keyframe au acelaşi conţinut cu keyframe-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drele interpolate într-o animaţie motion tween sunt afişate de culoare bleu deschis, iar shape tween sunt afişate de culoare verde deschis, cu o săgeată neagră între keyframe-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1295280" y="4273560"/>
          <a:ext cx="741204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273560"/>
                    <a:ext cx="74120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457200" y="5562720"/>
          <a:ext cx="784872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562720"/>
                    <a:ext cx="7848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tion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5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5C0-4EE1-4C7D-B638-2DAF659C280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920ABB1-870E-4548-A391-17CF37D4710A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2034-ABCF-4EE6-8751-4920B053EB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Drop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tion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5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FB5-FAFD-422E-8F86-0DB371D53F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09963DB-9549-4976-92AB-FAB3A4411816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39C-34B1-4ABC-81DA-69D55A03FE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a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i compl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tion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5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D8CF-7658-4F2E-8007-D683823BE22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89425FD-0438-4E5E-ACC0-DC23D09C1FE6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5C17-7B07-49F3-AE05-EA3694212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i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tion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8048-318E-46FF-B8AA-8200CD46AC2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3AEE8C0-44D1-4E0E-B0F2-AF04F883F673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0993-3FF4-483C-A1F6-B9657FD16B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Shape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desenează/importă o formă într-un anumit moment de timp, apoi aceasta, în alt moment, se modifică sau se înlocuieşte(morfism). Între cele două momente de timp se creaz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hape twee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lash interpretează valorile sau formele pentru cadrele </a:t>
            </a:r>
            <a:r>
              <a:rPr b="1" lang="ro-RO" sz="2400" spc="-1" strike="noStrike">
                <a:solidFill>
                  <a:srgbClr val="990033"/>
                </a:solidFill>
                <a:latin typeface="Arial"/>
              </a:rPr>
              <a:t>in betwee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reând animaţ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imaţia tweened reprezintă o cale foarte eficientă de creare a mişcării şi schimbărilor în timp, minimizând dimensiunile fişierului, deoarece în animaţia tweened, Flash memorează numai valorile care se modifică între cadrele de tip key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CAE1-1EDD-469E-A73C-2096DCC7574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63104AF-D08E-4905-9668-9B80DC6C893C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0B6-1506-455F-BCCC-DD40CFB658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Shape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"/>
              </a:rPr>
              <a:t>Observa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a aplica shape tweening grupurilor, instanţelor sau imaginilor bitmap, în prealabil acestea trebuie desfăcute în părţi componente  Modify </a:t>
            </a:r>
            <a:r>
              <a:rPr b="0" lang="ro-R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Break Apart (se aplică grupului bitmap sau simbolulu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a aplica shape tween textului acestuia îi trebuie aplicat Break Apart de două ori, pentru a converti textul în litere individuale şi apoi în fo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7162920" y="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75AB-0694-465C-93AA-39A9C665C94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B90F5F3-D906-4954-B28D-6C664217D9E0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23:20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390C-B5AC-4585-A545-BA0A8BD833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Shape twe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fism creat prin shape twee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ul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0:11:52Z</dcterms:created>
  <dc:creator>www.RegieLive.ro</dc:creator>
  <dc:description/>
  <dc:language>en-US</dc:language>
  <cp:lastModifiedBy>User</cp:lastModifiedBy>
  <dcterms:modified xsi:type="dcterms:W3CDTF">2012-02-24T09:16:12Z</dcterms:modified>
  <cp:revision>34</cp:revision>
  <dc:subject/>
  <dc:title>Aplicatii Multimedia</dc:title>
</cp:coreProperties>
</file>